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9046-3E1B-429E-92A2-532954D39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 Mexican 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 Roman Catho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588B-1EA0-4D4B-B23C-B4A518F3C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ta An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9795-6AF1-48BA-9B4F-7A9F17231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1BD3-B725-47FD-BE85-8B8AC1706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(a) the Capitol and the state capitols; (b) the 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at the greedy tentacles are grabbing as much power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lankback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2.xml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914400" y="2057400"/>
            <a:ext cx="77724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dustrialization was caused 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ward Expansion (railro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bsi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609480" y="838080"/>
            <a:ext cx="739152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Darwinist said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the strong survive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win, Charle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 the Origin of Spec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18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many others said that the big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d low wages—too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laborers work too l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ve their workers dangerous working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: Triangle Shirtwaist Factory fire in 1911—fire escape doors locked, fire ladders too short, 150 people 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image_Rockefeller3d1dff4d880c6fae8c4b1d93471ce36d.png"/>
          <p:cNvPicPr/>
          <p:nvPr/>
        </p:nvPicPr>
        <p:blipFill>
          <a:blip r:embed="rId1"/>
          <a:stretch/>
        </p:blipFill>
        <p:spPr>
          <a:xfrm>
            <a:off x="1066680" y="914400"/>
            <a:ext cx="5435640" cy="3695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946440" y="4800600"/>
            <a:ext cx="663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hn D. Rockefeller: oil refi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w up poor in upstate New Y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7162920" y="21337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ant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image_andrew-carnegie.jpg"/>
          <p:cNvPicPr/>
          <p:nvPr/>
        </p:nvPicPr>
        <p:blipFill>
          <a:blip r:embed="rId1"/>
          <a:stretch/>
        </p:blipFill>
        <p:spPr>
          <a:xfrm>
            <a:off x="609480" y="990720"/>
            <a:ext cx="7874280" cy="3835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1783800" y="5105520"/>
            <a:ext cx="50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rew Carnegie: ste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immigrant from Scot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7543800" y="48769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ant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image_JP Morgan.jpeg"/>
          <p:cNvPicPr/>
          <p:nvPr/>
        </p:nvPicPr>
        <p:blipFill>
          <a:blip r:embed="rId1"/>
          <a:stretch/>
        </p:blipFill>
        <p:spPr>
          <a:xfrm>
            <a:off x="1828800" y="685800"/>
            <a:ext cx="3352680" cy="43308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1766160" y="5105520"/>
            <a:ext cx="47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P Morgan: fina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to successful banking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7086600" y="22860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ant of F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image_wealth concentration.png"/>
          <p:cNvPicPr/>
          <p:nvPr/>
        </p:nvPicPr>
        <p:blipFill>
          <a:blip r:embed="rId1"/>
          <a:stretch/>
        </p:blipFill>
        <p:spPr>
          <a:xfrm>
            <a:off x="0" y="762120"/>
            <a:ext cx="7467480" cy="5627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1066680" y="6248520"/>
            <a:ext cx="6934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ntration of Wealth…then and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762120" y="1066680"/>
            <a:ext cx="6172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ente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 technology, then describe a person who used that technology to make a business fortu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 technology, then name a nation that used that technology to build an emp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breaker boys_coal"/>
          <p:cNvPicPr/>
          <p:nvPr/>
        </p:nvPicPr>
        <p:blipFill>
          <a:blip r:embed="rId1"/>
          <a:stretch/>
        </p:blipFill>
        <p:spPr>
          <a:xfrm>
            <a:off x="969840" y="887400"/>
            <a:ext cx="7202520" cy="508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knitters"/>
          <p:cNvPicPr/>
          <p:nvPr/>
        </p:nvPicPr>
        <p:blipFill>
          <a:blip r:embed="rId1"/>
          <a:stretch/>
        </p:blipFill>
        <p:spPr>
          <a:xfrm>
            <a:off x="982800" y="914400"/>
            <a:ext cx="7176960" cy="5029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838080" y="1600200"/>
            <a:ext cx="7693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nights of Lab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d in 186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Federation of Labor—AFL—formed was in  1886 and became coun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leading un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 unions relied on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llective bargain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union negotiates for workers as a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y Harri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h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ones campaigned for un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838080" y="990720"/>
            <a:ext cx="769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llions of people moved to the cities for jobs and excit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rbanization--cit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nements--crowded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ty life--with ligh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990720" y="1752480"/>
            <a:ext cx="7772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Westward Expa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ld was discovered in California in 1849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al, iron, lead, silver, copper and lumb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continental railroad was started in 1863 and completed in 1869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immigrants wanted to farm out we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228600" y="1143000"/>
            <a:ext cx="8534520" cy="5508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econd Industrial Revolution was caused b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18"/>
          <p:cNvPicPr/>
          <p:nvPr/>
        </p:nvPicPr>
        <p:blipFill>
          <a:blip r:embed="rId1"/>
          <a:stretch/>
        </p:blipFill>
        <p:spPr>
          <a:xfrm>
            <a:off x="1295280" y="914400"/>
            <a:ext cx="7086600" cy="5002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219320" y="685800"/>
            <a:ext cx="7102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immigrants woul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ssimil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to America over time--become part of the American cul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 many Americans disliked the newcomers. These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ativist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imed that the newcom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not assimilate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took jobs from Americ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762120" y="16765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vernment subsi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sidy=grant of land or money to a busin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vernment gave 180 million acres to the railroa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ailroads would sell the land to other people who could build businesses on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304920" y="762120"/>
            <a:ext cx="8534160" cy="5508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econd Industrial Revolution was caused b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609480" y="1143000"/>
            <a:ext cx="8305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il discovered in Pennsylvania in 1859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ew technology—no one had used the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z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uff for fuel ever bef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dison invented the light bulb in1879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reated an electric plant to light whole c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ll invented telephone in 187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0,000 businesses had telephones by 188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d mass produced cars in 1900. He </a:t>
            </a:r>
            <a:r>
              <a:rPr b="0" lang="ja-JP" sz="2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vented</a:t>
            </a:r>
            <a:r>
              <a:rPr b="0" lang="ja-JP" sz="2800" spc="-1" strike="noStrike" u="sng">
                <a:solidFill>
                  <a:srgbClr val="000000"/>
                </a:solidFill>
                <a:uFillTx/>
                <a:latin typeface="Arial"/>
              </a:rPr>
              <a:t>”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ssembly in 19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right brothers flew in 190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28600" y="380880"/>
            <a:ext cx="8534520" cy="5508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econd Industrial Revolution was caused b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533520" y="2438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S4KrIMZpwCY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763560" y="1752480"/>
            <a:ext cx="508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Ford—assembly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002600" y="3429000"/>
            <a:ext cx="30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ght 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861480" y="4495680"/>
            <a:ext cx="49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T5o-fhBKf8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1219320" y="685800"/>
            <a:ext cx="6476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difference between a “robber baron” and a “captain of industry”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ould you classify Rockefeller and Carnegi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ould you classify Bill Gates and Steve Job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457200" y="1295280"/>
            <a:ext cx="83059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Government did not regulate busines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ernment followed idea o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issez-fai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Companies could win TOTAL CONTROL over industri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s called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opo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ckefeller and Carnegie used trusts to create monopoli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Companies issued shares of stock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y people could share the profits (and losses) of the compani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152280" y="533520"/>
            <a:ext cx="8763120" cy="5508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did Big Business expand rapidly in America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1371600" y="9144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5563800" y="129528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6" descr=""/>
          <p:cNvPicPr/>
          <p:nvPr/>
        </p:nvPicPr>
        <p:blipFill>
          <a:blip r:embed="rId1"/>
          <a:stretch/>
        </p:blipFill>
        <p:spPr>
          <a:xfrm>
            <a:off x="1474920" y="2255760"/>
            <a:ext cx="1469880" cy="56052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17" descr=""/>
          <p:cNvPicPr/>
          <p:nvPr/>
        </p:nvPicPr>
        <p:blipFill>
          <a:blip r:embed="rId2"/>
          <a:stretch/>
        </p:blipFill>
        <p:spPr>
          <a:xfrm>
            <a:off x="3992400" y="2871720"/>
            <a:ext cx="1463760" cy="55404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18" descr=""/>
          <p:cNvPicPr/>
          <p:nvPr/>
        </p:nvPicPr>
        <p:blipFill>
          <a:blip r:embed="rId3"/>
          <a:stretch/>
        </p:blipFill>
        <p:spPr>
          <a:xfrm>
            <a:off x="5437080" y="2182680"/>
            <a:ext cx="1470240" cy="55404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19" descr=""/>
          <p:cNvPicPr/>
          <p:nvPr/>
        </p:nvPicPr>
        <p:blipFill>
          <a:blip r:embed="rId4"/>
          <a:stretch/>
        </p:blipFill>
        <p:spPr>
          <a:xfrm>
            <a:off x="5516640" y="2871720"/>
            <a:ext cx="1463760" cy="55404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20" descr=""/>
          <p:cNvPicPr/>
          <p:nvPr/>
        </p:nvPicPr>
        <p:blipFill>
          <a:blip r:embed="rId5"/>
          <a:stretch/>
        </p:blipFill>
        <p:spPr>
          <a:xfrm>
            <a:off x="1474920" y="3097080"/>
            <a:ext cx="1469880" cy="55404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21" descr=""/>
          <p:cNvPicPr/>
          <p:nvPr/>
        </p:nvPicPr>
        <p:blipFill>
          <a:blip r:embed="rId6"/>
          <a:stretch/>
        </p:blipFill>
        <p:spPr>
          <a:xfrm>
            <a:off x="7265880" y="2871720"/>
            <a:ext cx="1470240" cy="554040"/>
          </a:xfrm>
          <a:prstGeom prst="rect">
            <a:avLst/>
          </a:prstGeom>
          <a:ln w="0">
            <a:noFill/>
          </a:ln>
        </p:spPr>
      </p:pic>
      <p:sp>
        <p:nvSpPr>
          <p:cNvPr id="66" name="Straight Connector 23"/>
          <p:cNvSpPr/>
          <p:nvPr/>
        </p:nvSpPr>
        <p:spPr>
          <a:xfrm flipH="1">
            <a:off x="2207880" y="2744640"/>
            <a:ext cx="324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24"/>
          <p:cNvSpPr/>
          <p:nvPr/>
        </p:nvSpPr>
        <p:spPr>
          <a:xfrm flipH="1">
            <a:off x="6172200" y="2590920"/>
            <a:ext cx="14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25"/>
          <p:cNvSpPr/>
          <p:nvPr/>
        </p:nvSpPr>
        <p:spPr>
          <a:xfrm flipH="1">
            <a:off x="4800240" y="2438280"/>
            <a:ext cx="68580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26"/>
          <p:cNvSpPr/>
          <p:nvPr/>
        </p:nvSpPr>
        <p:spPr>
          <a:xfrm>
            <a:off x="6781680" y="2666880"/>
            <a:ext cx="9144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457200" y="457200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ple companies…one board of director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hapter_activity"/>
          <p:cNvPicPr/>
          <p:nvPr/>
        </p:nvPicPr>
        <p:blipFill>
          <a:blip r:embed="rId1"/>
          <a:stretch/>
        </p:blipFill>
        <p:spPr>
          <a:xfrm>
            <a:off x="0" y="0"/>
            <a:ext cx="9144000" cy="819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1462680" y="73080"/>
            <a:ext cx="16923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7104240"/>
            <a:ext cx="822960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parency: Standard 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5" descr="GR8_Ch14_Sec01_C30_Q"/>
          <p:cNvPicPr/>
          <p:nvPr/>
        </p:nvPicPr>
        <p:blipFill>
          <a:blip r:embed="rId2"/>
          <a:stretch/>
        </p:blipFill>
        <p:spPr>
          <a:xfrm>
            <a:off x="6629400" y="1066680"/>
            <a:ext cx="1743120" cy="608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bttn_prev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97760" y="6489720"/>
            <a:ext cx="420840" cy="309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2" descr="bttn_exit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6934320" y="6491160"/>
            <a:ext cx="420480" cy="306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3" descr="toc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67480" y="6489720"/>
            <a:ext cx="420840" cy="309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bttn_next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528040" y="6489720"/>
            <a:ext cx="420840" cy="309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5" descr="ch14_06"/>
          <p:cNvPicPr/>
          <p:nvPr/>
        </p:nvPicPr>
        <p:blipFill>
          <a:blip r:embed="rId8"/>
          <a:stretch/>
        </p:blipFill>
        <p:spPr>
          <a:xfrm>
            <a:off x="304920" y="1676520"/>
            <a:ext cx="8170920" cy="467496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685800" y="762120"/>
            <a:ext cx="79246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efeller’s oil trust was like an octopus controlling everyth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0:15:14Z</dcterms:created>
  <dc:creator>vijay.m</dc:creator>
  <dc:description/>
  <dc:language>en-US</dc:language>
  <cp:lastModifiedBy>Thomas Hagerty</cp:lastModifiedBy>
  <cp:lastPrinted>2013-04-24T11:44:13Z</cp:lastPrinted>
  <dcterms:modified xsi:type="dcterms:W3CDTF">2015-05-05T12:22:38Z</dcterms:modified>
  <cp:revision>406</cp:revision>
  <dc:subject/>
  <dc:title>Slide 1</dc:title>
</cp:coreProperties>
</file>